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15.png" ContentType="image/png"/>
  <Override PartName="/ppt/media/drumroll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applause.wav" ContentType="audio/x-wav"/>
  <Override PartName="/ppt/media/image10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DE1-9ADF-4368-81AF-64D3BD64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F82-A445-471D-AC81-EDCD85E8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2F4-E496-4C31-94F9-F835296D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6C5-46D3-47B4-B38A-3B876882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2115-1F33-40E4-BBB0-17DE0661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C79C-3846-4E2E-B8CB-321221EE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F029-91B5-4623-B917-D40A9328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F7E8-87AE-45AE-B435-ECA4B7F7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7481-8C65-4AE0-AD7E-C5D7BD18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8AEC-4AE9-47F9-AC8B-0A885597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2FC0-EE12-4423-960B-C0ADE0F2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4D1-89CD-4934-AF46-F97AAA24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BA9F-8C93-4ADE-91E3-82725D81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B112-EFA6-4F3E-91BF-E3EF9A69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C416-1558-408F-82E6-5E37C98D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4F04-D4B6-4867-A0E6-E25CF46C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DEEF-47C7-432B-91AE-DD806011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A7C3-CBDB-4F46-93D8-D8B99CA5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18C5-1145-4357-BEE9-CC6CCAB5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CF6D-2767-4345-84F6-C1E65E92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74D3-8205-4F55-80F5-83B3BFD0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32818-5DB4-4DD8-BC79-85EE99CE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F61-A54B-41E9-8E76-E16E71F5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F4CF-C04E-462A-84E0-DDC27145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DDF8-1345-4CEC-BCBB-E621BAFD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A734-48CD-49DB-B408-DD0D4A8F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DC0A-CB1D-4548-B575-911F1543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5E1C4-52FC-4591-B00B-616F3173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77D0-139F-4350-8D06-B693BFAD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FE14-2CA6-4873-B3F8-B001A4F4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FC1-29AA-4B36-890E-9D5F6C85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4E8-DDC9-4391-A731-DE960675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DB7-31E6-47C3-8659-39578B24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A65-192D-4264-940E-44F86562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6F4-DDB0-4370-A642-1A6BA07D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3E1-0C65-4991-93D4-AB8BBC9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30B9-4159-42C6-AB42-D100C9717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0644-FEBB-41C1-B243-50D9525402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1026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032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1033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34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35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036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037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38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39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040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041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042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043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44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45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1046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1047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48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49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50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51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1052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53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6A73-7799-4975-A7D9-4D74FC450A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219320" y="1295280"/>
            <a:ext cx="6172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parative Ending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685800" y="518148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-es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6324480" y="495288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-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6781680" y="228600"/>
            <a:ext cx="1828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-es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10"/>
          <p:cNvSpPr txBox="1"/>
          <p:nvPr/>
        </p:nvSpPr>
        <p:spPr>
          <a:xfrm>
            <a:off x="304920" y="45720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-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66cc"/>
                </a:solidFill>
                <a:uFillTx/>
                <a:latin typeface="Comic Sans MS"/>
              </a:rPr>
              <a:t>Comparative End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–er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 a word to compare two people, places, things, or animal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–est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 a word to compare three or more people, places, things, or animal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on’t forget that some words will be spelled differently when endings are added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3581280" y="76320"/>
            <a:ext cx="1600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81080" y="121932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666880" y="2057400"/>
            <a:ext cx="6096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Arial"/>
              </a:rPr>
              <a:t>Vowe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3800" spc="-1" strike="noStrike">
                <a:solidFill>
                  <a:srgbClr val="6600ff"/>
                </a:solidFill>
                <a:latin typeface="Arial"/>
              </a:rPr>
              <a:t>consonan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28600" y="281952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90720" y="1828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6600ff"/>
                </a:solidFill>
                <a:latin typeface="Arial"/>
              </a:rPr>
              <a:t>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276720" y="3505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dd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–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276720" y="4038480"/>
            <a:ext cx="259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all</a:t>
            </a:r>
            <a:r>
              <a:rPr b="0" lang="en-US" sz="7000" spc="-1" strike="noStrike">
                <a:solidFill>
                  <a:srgbClr val="99cc00"/>
                </a:solidFill>
                <a:latin typeface="Arial"/>
              </a:rPr>
              <a:t>e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2" descr="j0078704"/>
          <p:cNvPicPr/>
          <p:nvPr/>
        </p:nvPicPr>
        <p:blipFill>
          <a:blip r:embed="rId1"/>
          <a:stretch/>
        </p:blipFill>
        <p:spPr>
          <a:xfrm>
            <a:off x="6270480" y="2209680"/>
            <a:ext cx="2264040" cy="4391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3"/>
          <p:cNvSpPr/>
          <p:nvPr/>
        </p:nvSpPr>
        <p:spPr>
          <a:xfrm>
            <a:off x="152280" y="54864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n is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all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n the bo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3505320" y="76320"/>
            <a:ext cx="2209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90920" y="152388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267080" y="205740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66"/>
                </a:solidFill>
                <a:latin typeface="Arial"/>
              </a:rPr>
              <a:t>Consona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143000" y="281952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219320" y="1828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6000" spc="-1" strike="noStrike">
                <a:solidFill>
                  <a:srgbClr val="ff9966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80880" y="3581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dd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133720" y="4191120"/>
            <a:ext cx="3124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70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0" lang="en-US" sz="7000" spc="-1" strike="noStrike">
                <a:solidFill>
                  <a:srgbClr val="ffcc00"/>
                </a:solidFill>
                <a:latin typeface="Arial"/>
              </a:rPr>
              <a:t>e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4" descr="MCj01981710000[1]"/>
          <p:cNvPicPr/>
          <p:nvPr/>
        </p:nvPicPr>
        <p:blipFill>
          <a:blip r:embed="rId1"/>
          <a:stretch/>
        </p:blipFill>
        <p:spPr>
          <a:xfrm>
            <a:off x="6400800" y="152280"/>
            <a:ext cx="2362320" cy="1121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MCBD09070_0000[1]"/>
          <p:cNvPicPr/>
          <p:nvPr/>
        </p:nvPicPr>
        <p:blipFill>
          <a:blip r:embed="rId2"/>
          <a:stretch/>
        </p:blipFill>
        <p:spPr>
          <a:xfrm>
            <a:off x="6095880" y="4419720"/>
            <a:ext cx="2667240" cy="2076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MCj02291010000[1]"/>
          <p:cNvPicPr/>
          <p:nvPr/>
        </p:nvPicPr>
        <p:blipFill>
          <a:blip r:embed="rId3"/>
          <a:stretch/>
        </p:blipFill>
        <p:spPr>
          <a:xfrm>
            <a:off x="7391520" y="3348000"/>
            <a:ext cx="1523880" cy="1122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MCNA01470_0000[1]"/>
          <p:cNvPicPr/>
          <p:nvPr/>
        </p:nvPicPr>
        <p:blipFill>
          <a:blip r:embed="rId4"/>
          <a:stretch/>
        </p:blipFill>
        <p:spPr>
          <a:xfrm>
            <a:off x="228600" y="228600"/>
            <a:ext cx="2403360" cy="14778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9"/>
          <p:cNvSpPr/>
          <p:nvPr/>
        </p:nvSpPr>
        <p:spPr>
          <a:xfrm>
            <a:off x="593640" y="537048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20" y="563868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ert 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ri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on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3505320" y="76320"/>
            <a:ext cx="2209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ll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981080" y="121932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267080" y="182880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66"/>
                </a:solidFill>
                <a:latin typeface="Arial"/>
              </a:rPr>
              <a:t>Consona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28600" y="251460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1219320" y="1600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l</a:t>
            </a:r>
            <a:r>
              <a:rPr b="0" lang="en-US" sz="6000" spc="-1" strike="noStrike">
                <a:solidFill>
                  <a:srgbClr val="ff9966"/>
                </a:solidFill>
                <a:latin typeface="Arial"/>
              </a:rPr>
              <a:t>l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80880" y="3276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dd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2895480" y="3886200"/>
            <a:ext cx="3124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ll</a:t>
            </a:r>
            <a:r>
              <a:rPr b="0" lang="en-US" sz="70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0" lang="en-US" sz="7000" spc="-1" strike="noStrike">
                <a:solidFill>
                  <a:srgbClr val="ffcc00"/>
                </a:solidFill>
                <a:latin typeface="Arial"/>
              </a:rPr>
              <a:t>e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j0086846"/>
          <p:cNvPicPr/>
          <p:nvPr/>
        </p:nvPicPr>
        <p:blipFill>
          <a:blip r:embed="rId1"/>
          <a:stretch/>
        </p:blipFill>
        <p:spPr>
          <a:xfrm>
            <a:off x="6580080" y="3048120"/>
            <a:ext cx="2563920" cy="3524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j0086350"/>
          <p:cNvPicPr/>
          <p:nvPr/>
        </p:nvPicPr>
        <p:blipFill>
          <a:blip r:embed="rId2"/>
          <a:stretch/>
        </p:blipFill>
        <p:spPr>
          <a:xfrm>
            <a:off x="438120" y="3886200"/>
            <a:ext cx="1197000" cy="1752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j0086356"/>
          <p:cNvPicPr/>
          <p:nvPr/>
        </p:nvPicPr>
        <p:blipFill>
          <a:blip r:embed="rId3"/>
          <a:stretch/>
        </p:blipFill>
        <p:spPr>
          <a:xfrm>
            <a:off x="1600200" y="4724280"/>
            <a:ext cx="14652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8229600" y="472428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47242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15"/>
          <p:cNvSpPr/>
          <p:nvPr/>
        </p:nvSpPr>
        <p:spPr>
          <a:xfrm>
            <a:off x="3277440" y="5486400"/>
            <a:ext cx="300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ll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wn of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63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3505320" y="76320"/>
            <a:ext cx="259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81080" y="121932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267080" y="205740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66"/>
                </a:solidFill>
                <a:latin typeface="Arial"/>
              </a:rPr>
              <a:t>Consona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143000" y="281952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219320" y="1828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en-US" sz="6000" spc="-1" strike="noStrike">
                <a:solidFill>
                  <a:srgbClr val="ff9966"/>
                </a:solidFill>
                <a:latin typeface="Arial"/>
              </a:rPr>
              <a:t>n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04920" y="3581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dd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371600" y="4191120"/>
            <a:ext cx="3124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unn</a:t>
            </a:r>
            <a:r>
              <a:rPr b="0" lang="en-US" sz="70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0" lang="en-US" sz="7000" spc="-1" strike="noStrike">
                <a:solidFill>
                  <a:srgbClr val="ffcc00"/>
                </a:solidFill>
                <a:latin typeface="Arial"/>
              </a:rPr>
              <a:t>e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924680" y="579132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57913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Picture 12" descr="j0204676"/>
          <p:cNvPicPr/>
          <p:nvPr/>
        </p:nvPicPr>
        <p:blipFill>
          <a:blip r:embed="rId3"/>
          <a:stretch/>
        </p:blipFill>
        <p:spPr>
          <a:xfrm>
            <a:off x="5541840" y="3435480"/>
            <a:ext cx="2687760" cy="2889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3"/>
          <p:cNvSpPr/>
          <p:nvPr/>
        </p:nvSpPr>
        <p:spPr>
          <a:xfrm>
            <a:off x="151560" y="545940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older brother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n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my younger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25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3581280" y="76320"/>
            <a:ext cx="228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981080" y="121932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666880" y="2057400"/>
            <a:ext cx="6096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Arial"/>
              </a:rPr>
              <a:t>Vowe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3800" spc="-1" strike="noStrike">
                <a:solidFill>
                  <a:srgbClr val="6600ff"/>
                </a:solidFill>
                <a:latin typeface="Arial"/>
              </a:rPr>
              <a:t>consonan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28600" y="281952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533520" y="18288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6600ff"/>
                </a:solidFill>
                <a:latin typeface="Arial"/>
              </a:rPr>
              <a:t>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5791320" y="3505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dd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–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743200" y="4038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AN00375_"/>
          <p:cNvPicPr/>
          <p:nvPr/>
        </p:nvPicPr>
        <p:blipFill>
          <a:blip r:embed="rId1"/>
          <a:stretch/>
        </p:blipFill>
        <p:spPr>
          <a:xfrm>
            <a:off x="380880" y="3352680"/>
            <a:ext cx="2422800" cy="3132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AN01017_"/>
          <p:cNvPicPr/>
          <p:nvPr/>
        </p:nvPicPr>
        <p:blipFill>
          <a:blip r:embed="rId2"/>
          <a:stretch/>
        </p:blipFill>
        <p:spPr>
          <a:xfrm>
            <a:off x="5181480" y="3581280"/>
            <a:ext cx="557280" cy="1182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j0192181"/>
          <p:cNvPicPr/>
          <p:nvPr/>
        </p:nvPicPr>
        <p:blipFill>
          <a:blip r:embed="rId3"/>
          <a:stretch/>
        </p:blipFill>
        <p:spPr>
          <a:xfrm>
            <a:off x="7493040" y="4038480"/>
            <a:ext cx="165096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4572000" y="502920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029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15"/>
          <p:cNvSpPr/>
          <p:nvPr/>
        </p:nvSpPr>
        <p:spPr>
          <a:xfrm>
            <a:off x="3048120" y="5334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parakeet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mall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t I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00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3657600" y="76320"/>
            <a:ext cx="1600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981080" y="121932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666880" y="1905120"/>
            <a:ext cx="6096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Arial"/>
              </a:rPr>
              <a:t>Short vowe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3800" spc="-1" strike="noStrike">
                <a:solidFill>
                  <a:srgbClr val="6600ff"/>
                </a:solidFill>
                <a:latin typeface="Arial"/>
              </a:rPr>
              <a:t>consona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143000" y="259092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219320" y="1676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6600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04920" y="304812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 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short vo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onso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the only thing to d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the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onso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dd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–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019920" y="3641760"/>
            <a:ext cx="3124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7000" spc="-1" strike="noStrike">
                <a:solidFill>
                  <a:srgbClr val="3366ff"/>
                </a:solidFill>
                <a:latin typeface="Arial"/>
              </a:rPr>
              <a:t>tt</a:t>
            </a:r>
            <a:r>
              <a:rPr b="0" lang="en-US" sz="7000" spc="-1" strike="noStrike">
                <a:solidFill>
                  <a:srgbClr val="99cc00"/>
                </a:solidFill>
                <a:latin typeface="Arial"/>
              </a:rPr>
              <a:t>e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2" descr="j0264908"/>
          <p:cNvPicPr/>
          <p:nvPr/>
        </p:nvPicPr>
        <p:blipFill>
          <a:blip r:embed="rId1"/>
          <a:stretch/>
        </p:blipFill>
        <p:spPr>
          <a:xfrm>
            <a:off x="0" y="4724280"/>
            <a:ext cx="2590920" cy="1933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j0126115"/>
          <p:cNvPicPr/>
          <p:nvPr/>
        </p:nvPicPr>
        <p:blipFill>
          <a:blip r:embed="rId2"/>
          <a:stretch/>
        </p:blipFill>
        <p:spPr>
          <a:xfrm>
            <a:off x="6781680" y="4724280"/>
            <a:ext cx="187668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4648320" y="6172200"/>
          <a:ext cx="3045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61722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6"/>
          <p:cNvSpPr/>
          <p:nvPr/>
        </p:nvSpPr>
        <p:spPr>
          <a:xfrm>
            <a:off x="3031920" y="5145120"/>
            <a:ext cx="36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ppy eat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69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66cc"/>
                </a:solidFill>
                <a:uFillTx/>
                <a:latin typeface="Comic Sans MS"/>
              </a:rPr>
              <a:t>Comparative End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–er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 a word to compare two people, places, things, or animal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–est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 a word to compare three or more people, places, things, or animal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on’t forget about spelling changes when endings are added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6400800" y="5981760"/>
            <a:ext cx="2038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5:37:09Z</dcterms:created>
  <dc:creator>Kristen Clasen Havnen</dc:creator>
  <dc:description/>
  <dc:language>en-US</dc:language>
  <cp:lastModifiedBy>teacher</cp:lastModifiedBy>
  <dcterms:modified xsi:type="dcterms:W3CDTF">2010-12-06T02:48:09Z</dcterms:modified>
  <cp:revision>18</cp:revision>
  <dc:subject/>
  <dc:title>Slide 1</dc:title>
</cp:coreProperties>
</file>